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524-84BF-4D6C-B1AD-B6832223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8D6-7D6B-4E52-A3B8-B918D238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654-AD11-4D8D-805C-42E435DC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B6A-17B7-4A14-9D66-C5CF6CE0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9D1-CEE6-47F3-B124-E2DEB97D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C1F7-B04C-489A-B330-48A42B72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E9C-B539-4FCD-8779-50AA1474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0C3-2FF2-41EB-908C-518C02D7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96E-1592-436A-ADC8-04930D03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640-0F1A-4016-AF9B-1BD9587C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D50-6C2A-431D-A14C-F76F9D7D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7B0-35D0-4E77-9AB5-ED10136B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A5F0-7700-4CD4-9915-F3D76783F9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C:\Documents and Settings\Darren\Desktop\Escuela de Verano\Escuela de Verano\Fotos para Clases\kepler earth-short.mp3" TargetMode="External"/><Relationship Id="rId3" Type="http://schemas.openxmlformats.org/officeDocument/2006/relationships/hyperlink" Target="C:\Documents and Settings\Darren\Desktop\Escuela de Verano\Escuela de Verano\Fotos para Clases\kepler earth venus mars.mid" TargetMode="External"/><Relationship Id="rId4" Type="http://schemas.openxmlformats.org/officeDocument/2006/relationships/hyperlink" Target="C:\Documents and Settings\Darren\Desktop\Escuela de Verano\Escuela de Verano\Fotos para Clases\kepler-scale.mp3" TargetMode="External"/><Relationship Id="rId5" Type="http://schemas.openxmlformats.org/officeDocument/2006/relationships/hyperlink" Target="C:\Documents and Settings\Darren\Desktop\Escuela de Verano\Escuela de Verano\Fotos para Clases\kepler-stereo All six.mp3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ewton notó que la separación que existe entre los distintos colores que componen la luz siguen una secuencia similar a la tradicional escala mayor en la músic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Larga – Larga – Corta – Larga - Larga - Larga – Cort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(Tono – Tono – SemiT – Tono –Tono –Tono –SemiTono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lanteaba nuevamente una antigua pregunt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496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abía creado la Naturaleza una ley para la Melodía y la Armonía similares a la de la mezcla de colores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" name="Picture 4" descr="prism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s universidades medievales, trazando el asunto hasta los antiguos griegos, afirmaban que así era…enseñaban Música como una arquitectura invisible, un espejo de los ciel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Sin música, no puede haber conocimiento perfecto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scribiría el enciclopedista medieval Isidoro de Sevill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, “…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pues incluso el Universo se dice fue ensamblado con una cierta armonía de sonidos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28760" y="192888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Contraposición entre Naturaleza y Mecánica define profundamente qué tipo de música se puede hace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afinación DEBÍA estar regida por las leyes naturales (afinación Pitagórica, Justa, etc.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hora, el hombre tiene dominio sobre la naturaleza (permite la afinación Temperad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batalla duró tan sólo 2000 años, desde Pitágoras a Bac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71680" y="57168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RELIGIÓN VS LA CI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po de Batalla de la Af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mbio de V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Tanto con la imposición de panteones patriarcales, como con las filosofías similares a las de Pitágoras, cada vez más iban perdiendo su carácter de sagrado la naturaleza, y se va pavimentando el camino para la Reforma Protestante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testantes buscaban purificar la religión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obedece inmutablemente a las leyes de Dios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epara el camino para la visión mecanicista del mundo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como la  gran máquina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izo parecer el dominio tecnológico de la naturaleza como la recuperación de poder dado al Hombre por Dio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ferenció el conocimiento “natural” del mundo del conocimiento “moral”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Considerado por muchos como el fundador de la Ciencia moderna, inspiró la creación de la Royal Society of Lond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9" name="Picture 4" descr="Royal Society gresham"/>
          <p:cNvPicPr/>
          <p:nvPr/>
        </p:nvPicPr>
        <p:blipFill>
          <a:blip r:embed="rId1"/>
          <a:stretch/>
        </p:blipFill>
        <p:spPr>
          <a:xfrm>
            <a:off x="928800" y="4714920"/>
            <a:ext cx="3182760" cy="200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Francis bacon"/>
          <p:cNvPicPr/>
          <p:nvPr/>
        </p:nvPicPr>
        <p:blipFill>
          <a:blip r:embed="rId2"/>
          <a:stretch/>
        </p:blipFill>
        <p:spPr>
          <a:xfrm>
            <a:off x="7072200" y="214200"/>
            <a:ext cx="1625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ne Descar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mero en articular la nueva visón mecanicista del univers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“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odo el universo funciona en forma mecánica de acuerdo a necesidades matemática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UNIVERSO MECANIC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l Universo mecánico abrió puertas a un Dios mecánico. Esto influye fuertemente en todo ámbito de cosas, incluida la Mús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ticularmente, la AFIN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de Johannes Kepler (157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4" descr="jkepler"/>
          <p:cNvPicPr/>
          <p:nvPr/>
        </p:nvPicPr>
        <p:blipFill>
          <a:blip r:embed="rId1"/>
          <a:stretch/>
        </p:blipFill>
        <p:spPr>
          <a:xfrm>
            <a:off x="755640" y="3213000"/>
            <a:ext cx="202104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kepler solids"/>
          <p:cNvPicPr/>
          <p:nvPr/>
        </p:nvPicPr>
        <p:blipFill>
          <a:blip r:embed="rId2"/>
          <a:stretch/>
        </p:blipFill>
        <p:spPr>
          <a:xfrm>
            <a:off x="4932360" y="1773360"/>
            <a:ext cx="3656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numérica entre los semiejes de las elipses descritas por los planet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úsica de las Esfera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4" descr="kepler solar"/>
          <p:cNvPicPr/>
          <p:nvPr/>
        </p:nvPicPr>
        <p:blipFill>
          <a:blip r:embed="rId1"/>
          <a:stretch/>
        </p:blipFill>
        <p:spPr>
          <a:xfrm>
            <a:off x="3780000" y="620640"/>
            <a:ext cx="5003640" cy="37450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>
            <a:hlinkClick r:id="rId2"/>
          </p:cNvPr>
          <p:cNvSpPr/>
          <p:nvPr/>
        </p:nvSpPr>
        <p:spPr>
          <a:xfrm>
            <a:off x="248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>
            <a:hlinkClick r:id="rId3"/>
          </p:cNvPr>
          <p:cNvSpPr/>
          <p:nvPr/>
        </p:nvSpPr>
        <p:spPr>
          <a:xfrm>
            <a:off x="3708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268360" y="59482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348000" y="594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Venus 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>
            <a:hlinkClick r:id="rId4"/>
          </p:cNvPr>
          <p:cNvSpPr/>
          <p:nvPr/>
        </p:nvSpPr>
        <p:spPr>
          <a:xfrm>
            <a:off x="543564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07528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>
            <a:hlinkClick r:id="rId5"/>
          </p:cNvPr>
          <p:cNvSpPr/>
          <p:nvPr/>
        </p:nvSpPr>
        <p:spPr>
          <a:xfrm>
            <a:off x="716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80400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Plan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rofesor de Matemáticas en Trinity, Cambridg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Incansable experimentador, se encierra durante horas en su estudio a investigar distintos fenómenos de la naturalez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Matemáticas (disputa con Liebnitz el título de creador del Cálculo diferencial), mecánica, química, alquimia, se pincha la córnea con agujas para estudiar la deformación de la imagen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2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u mayor fascinación en algún momento fue la descomposición de la luz blanca en sus distintos componentes al pasar por un prisma (efecto de refracción de la luz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sputado por los líderes religiosos de la época, por considerar la luz blanca, “el más limpio vapor de iluminación, y símbolo de la pureza del Paraíso” como una amalgama de colores del arcoiri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5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7T14:13:23Z</dcterms:modified>
  <cp:revision>30</cp:revision>
  <dc:subject/>
  <dc:title>Taller de Ciencias en la Música </dc:title>
</cp:coreProperties>
</file>